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6D29-1053-4287-89F6-F064C5289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66C4-FCDF-41CF-BAD2-B9CDF8FF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59B0-246F-4DF5-BBE3-7CA5B0727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3EC6-7F25-4F89-A889-C27A89B26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C4B1-5DC6-486C-A3F8-182C3E20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B3F7-371F-45EC-B622-05E5633E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678E-3630-4FDE-98AA-0F669C44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7E24-7233-40E2-9ACE-06D0E70A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BD9B-B826-45A3-A29B-71E363BE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6F4F-5975-42A4-84DC-673C1556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CA59-483C-4EC8-86E3-9D5725FC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F1AF-86D2-4268-90B7-B49366A6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6468-024C-4F72-A931-52C6336C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8EA2-2927-42CB-91E1-1F422B89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BA2A-42B0-4E1E-B2F4-8B29ED42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A344-4DBA-4FCB-9D98-B175D5604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F334-BE7A-4118-B222-129F01F0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A5A9B-2E49-4941-A400-E3ADD3663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88BA0-3116-4545-A398-3EBF95A1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1AA08-74BB-4177-AF77-E7AEC328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B3B54-2E3A-42BA-A7FF-3F19017D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A47D1-273A-431C-8433-9CA861E2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5634-A52A-4A74-86DA-8982F76D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D059D-13C4-44D7-8795-61D52A3B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348E1-39EF-4AA5-8D26-74C00056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C98B0-81FC-40F1-B5C4-DEBF9AD2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C6492-5187-47ED-B5CF-774946DF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B3623-E930-44E6-AFF9-70323090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10574-1043-4B27-88E3-BD0DF226E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D85E3-3E70-4852-BFC4-838B2202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74D2E-F78B-4FE4-8EBB-F39A13A4F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10320-A37C-4614-9444-E17C4E48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E57CE-0E57-458A-9C67-B52839E9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5E86-1449-4AF3-827A-81568936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B9ABD-07FD-4F26-8B44-D3693D6D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73AE7-6A10-4BAD-A733-A324E914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F7D27-7355-43EA-A7C5-0094BA5B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94025-7367-453A-8107-37D50AB9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43C8D-65B0-48B1-982F-8F74A0AA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571C1-FDA0-4BD3-B67C-69D6E060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1BF70-5847-4E71-9BF6-F47411D2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AD324-4E53-49E4-A40E-82819959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53FF9-4D4C-4FC8-918F-BC3C3182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BB50-D69E-4EAD-98F6-01677E33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9272-D613-45A0-A969-B87DFC19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F6C4-ECF1-467C-8757-A59BD673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0146-AC5C-4A91-B396-6DD2E204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0034-5E44-42FD-93BD-62EFBDCE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0FC3-C4DE-411D-B01A-529E770960E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2849-DEB8-4FE4-92C7-7616D432B59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A260-BC19-46B2-8E1F-BBEBCDA8CAC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4909-B2BB-4EB9-BE58-DD392E1E4E0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755640" y="66600"/>
            <a:ext cx="8186760" cy="1847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792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vone Nunez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3" descr="HJRACAKRICPLCAR8T2PLCA75SOP4CARW9X6RCAWW8J9QCAFXUMI9CAFNZ2F3CA8DD2D5CAQZ9ZEDCAP3HER2CAQTI0ERCAUHNC7RCAMG826OCAGF1X4UCANF4B9UCAGILR37CA27MAWFCA8OCJ6SCACQV9YY.jpg"/>
          <p:cNvPicPr/>
          <p:nvPr/>
        </p:nvPicPr>
        <p:blipFill>
          <a:blip r:embed="rId2"/>
          <a:stretch/>
        </p:blipFill>
        <p:spPr>
          <a:xfrm>
            <a:off x="3124080" y="2819520"/>
            <a:ext cx="3424320" cy="3233520"/>
          </a:xfrm>
          <a:prstGeom prst="rect">
            <a:avLst/>
          </a:prstGeom>
          <a:ln w="0">
            <a:noFill/>
          </a:ln>
        </p:spPr>
      </p:pic>
      <p:pic>
        <p:nvPicPr>
          <p:cNvPr id="198" name="Recorded Sound" descr=""/>
          <p:cNvPicPr/>
          <p:nvPr/>
        </p:nvPicPr>
        <p:blipFill>
          <a:blip r:embed="rId3"/>
          <a:stretch/>
        </p:blipFill>
        <p:spPr>
          <a:xfrm>
            <a:off x="-533520" y="5334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有两只猪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Content Placeholder 3" descr="7I0KCA3OOTHZCA3BCKZYCAN2XNETCA70PI69CA5VVZU7CAY981F1CAU1SZO9CA6CTIJWCAAYJD6BCA0QY0Z8CA4Q645RCA9QC77PCAZ4WWXBCAA2E21ZCA15NNSZCA4AHZTKCAPAZVFECAR8ZQ88CAJB96JE.jpg"/>
          <p:cNvPicPr/>
          <p:nvPr/>
        </p:nvPicPr>
        <p:blipFill>
          <a:blip r:embed="rId1"/>
          <a:stretch/>
        </p:blipFill>
        <p:spPr>
          <a:xfrm>
            <a:off x="4648320" y="2133720"/>
            <a:ext cx="2038320" cy="2038320"/>
          </a:xfrm>
          <a:prstGeom prst="rect">
            <a:avLst/>
          </a:prstGeom>
          <a:ln w="0">
            <a:noFill/>
          </a:ln>
        </p:spPr>
      </p:pic>
      <p:pic>
        <p:nvPicPr>
          <p:cNvPr id="238" name="Content Placeholder 3" descr="7I0KCA3OOTHZCA3BCKZYCAN2XNETCA70PI69CA5VVZU7CAY981F1CAU1SZO9CA6CTIJWCAAYJD6BCA0QY0Z8CA4Q645RCA9QC77PCAZ4WWXBCAA2E21ZCA15NNSZCA4AHZTKCAPAZVFECAR8ZQ88CAJB96JE.jpg"/>
          <p:cNvPicPr/>
          <p:nvPr/>
        </p:nvPicPr>
        <p:blipFill>
          <a:blip r:embed="rId2"/>
          <a:stretch/>
        </p:blipFill>
        <p:spPr>
          <a:xfrm>
            <a:off x="2209680" y="2057400"/>
            <a:ext cx="2038320" cy="20383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"/>
          <p:cNvSpPr/>
          <p:nvPr/>
        </p:nvSpPr>
        <p:spPr>
          <a:xfrm>
            <a:off x="2819520" y="541008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ere two p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Recorded Sound" descr=""/>
          <p:cNvPicPr/>
          <p:nvPr/>
        </p:nvPicPr>
        <p:blipFill>
          <a:blip r:embed="rId3"/>
          <a:stretch/>
        </p:blipFill>
        <p:spPr>
          <a:xfrm>
            <a:off x="-609480" y="5105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000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他们叫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ruit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和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oop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TextBox 3"/>
          <p:cNvSpPr/>
          <p:nvPr/>
        </p:nvSpPr>
        <p:spPr>
          <a:xfrm>
            <a:off x="1828800" y="49528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names were Fruit and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Content Placeholder 7" descr="7I0KCA3OOTHZCA3BCKZYCAN2XNETCA70PI69CA5VVZU7CAY981F1CAU1SZO9CA6CTIJWCAAYJD6BCA0QY0Z8CA4Q645RCA9QC77PCAZ4WWXBCAA2E21ZCA15NNSZCA4AHZTKCAPAZVFECAR8ZQ88CAJB96JE.jpg"/>
          <p:cNvPicPr/>
          <p:nvPr/>
        </p:nvPicPr>
        <p:blipFill>
          <a:blip r:embed="rId1"/>
          <a:stretch/>
        </p:blipFill>
        <p:spPr>
          <a:xfrm>
            <a:off x="3048120" y="23623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44" name="Recorded Sound" descr=""/>
          <p:cNvPicPr/>
          <p:nvPr/>
        </p:nvPicPr>
        <p:blipFill>
          <a:blip r:embed="rId2"/>
          <a:stretch/>
        </p:blipFill>
        <p:spPr>
          <a:xfrm>
            <a:off x="-533520" y="50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还有五只鸡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6" name="Content Placeholder 3" descr="X3Z9CAN3ZM7NCA96GW4ZCAM9YYD5CA6Z5W8MCAYZN40DCALDCUW1CAU9S6KMCAPXX8MRCAVRQWZ2CADZC1HVCAASYHMRCAOTIP7MCAYTYV51CA75P5MWCAUTVRGBCAY1402KCAQU0WAACA9MU1VFCAK4QY0M.jpg"/>
          <p:cNvPicPr/>
          <p:nvPr/>
        </p:nvPicPr>
        <p:blipFill>
          <a:blip r:embed="rId1"/>
          <a:stretch/>
        </p:blipFill>
        <p:spPr>
          <a:xfrm>
            <a:off x="1371600" y="2209680"/>
            <a:ext cx="961920" cy="1285920"/>
          </a:xfrm>
          <a:prstGeom prst="rect">
            <a:avLst/>
          </a:prstGeom>
          <a:ln w="0">
            <a:noFill/>
          </a:ln>
        </p:spPr>
      </p:pic>
      <p:pic>
        <p:nvPicPr>
          <p:cNvPr id="247" name="Content Placeholder 3" descr="X3Z9CAN3ZM7NCA96GW4ZCAM9YYD5CA6Z5W8MCAYZN40DCALDCUW1CAU9S6KMCAPXX8MRCAVRQWZ2CADZC1HVCAASYHMRCAOTIP7MCAYTYV51CA75P5MWCAUTVRGBCAY1402KCAQU0WAACA9MU1VFCAK4QY0M.jpg"/>
          <p:cNvPicPr/>
          <p:nvPr/>
        </p:nvPicPr>
        <p:blipFill>
          <a:blip r:embed="rId2"/>
          <a:stretch/>
        </p:blipFill>
        <p:spPr>
          <a:xfrm>
            <a:off x="2666880" y="2362320"/>
            <a:ext cx="962280" cy="1285920"/>
          </a:xfrm>
          <a:prstGeom prst="rect">
            <a:avLst/>
          </a:prstGeom>
          <a:ln w="0">
            <a:noFill/>
          </a:ln>
        </p:spPr>
      </p:pic>
      <p:pic>
        <p:nvPicPr>
          <p:cNvPr id="248" name="Content Placeholder 3" descr="X3Z9CAN3ZM7NCA96GW4ZCAM9YYD5CA6Z5W8MCAYZN40DCALDCUW1CAU9S6KMCAPXX8MRCAVRQWZ2CADZC1HVCAASYHMRCAOTIP7MCAYTYV51CA75P5MWCAUTVRGBCAY1402KCAQU0WAACA9MU1VFCAK4QY0M.jpg"/>
          <p:cNvPicPr/>
          <p:nvPr/>
        </p:nvPicPr>
        <p:blipFill>
          <a:blip r:embed="rId3"/>
          <a:stretch/>
        </p:blipFill>
        <p:spPr>
          <a:xfrm>
            <a:off x="3962520" y="2514600"/>
            <a:ext cx="961920" cy="1285920"/>
          </a:xfrm>
          <a:prstGeom prst="rect">
            <a:avLst/>
          </a:prstGeom>
          <a:ln w="0">
            <a:noFill/>
          </a:ln>
        </p:spPr>
      </p:pic>
      <p:pic>
        <p:nvPicPr>
          <p:cNvPr id="249" name="Content Placeholder 3" descr="X3Z9CAN3ZM7NCA96GW4ZCAM9YYD5CA6Z5W8MCAYZN40DCALDCUW1CAU9S6KMCAPXX8MRCAVRQWZ2CADZC1HVCAASYHMRCAOTIP7MCAYTYV51CA75P5MWCAUTVRGBCAY1402KCAQU0WAACA9MU1VFCAK4QY0M.jpg"/>
          <p:cNvPicPr/>
          <p:nvPr/>
        </p:nvPicPr>
        <p:blipFill>
          <a:blip r:embed="rId4"/>
          <a:stretch/>
        </p:blipFill>
        <p:spPr>
          <a:xfrm>
            <a:off x="5638680" y="2590920"/>
            <a:ext cx="962280" cy="1285920"/>
          </a:xfrm>
          <a:prstGeom prst="rect">
            <a:avLst/>
          </a:prstGeom>
          <a:ln w="0">
            <a:noFill/>
          </a:ln>
        </p:spPr>
      </p:pic>
      <p:pic>
        <p:nvPicPr>
          <p:cNvPr id="250" name="Content Placeholder 3" descr="X3Z9CAN3ZM7NCA96GW4ZCAM9YYD5CA6Z5W8MCAYZN40DCALDCUW1CAU9S6KMCAPXX8MRCAVRQWZ2CADZC1HVCAASYHMRCAOTIP7MCAYTYV51CA75P5MWCAUTVRGBCAY1402KCAQU0WAACA9MU1VFCAK4QY0M.jpg"/>
          <p:cNvPicPr/>
          <p:nvPr/>
        </p:nvPicPr>
        <p:blipFill>
          <a:blip r:embed="rId5"/>
          <a:stretch/>
        </p:blipFill>
        <p:spPr>
          <a:xfrm>
            <a:off x="7010280" y="2590920"/>
            <a:ext cx="962280" cy="1285920"/>
          </a:xfrm>
          <a:prstGeom prst="rect">
            <a:avLst/>
          </a:prstGeom>
          <a:ln w="0">
            <a:noFill/>
          </a:ln>
        </p:spPr>
      </p:pic>
      <p:sp>
        <p:nvSpPr>
          <p:cNvPr id="251" name="TextBox 7"/>
          <p:cNvSpPr/>
          <p:nvPr/>
        </p:nvSpPr>
        <p:spPr>
          <a:xfrm>
            <a:off x="1752480" y="48769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ere five chick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Recorded Sound" descr=""/>
          <p:cNvPicPr/>
          <p:nvPr/>
        </p:nvPicPr>
        <p:blipFill>
          <a:blip r:embed="rId6"/>
          <a:stretch/>
        </p:blipFill>
        <p:spPr>
          <a:xfrm>
            <a:off x="-685800" y="50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000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他们叫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Krispies, Puffs, Cocoa, Flakes </a:t>
            </a:r>
            <a:r>
              <a:rPr b="0" lang="ja-JP" sz="36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和 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Frosty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4" name="Content Placeholder 3" descr="X3Z9CAN3ZM7NCA96GW4ZCAM9YYD5CA6Z5W8MCAYZN40DCALDCUW1CAU9S6KMCAPXX8MRCAVRQWZ2CADZC1HVCAASYHMRCAOTIP7MCAYTYV51CA75P5MWCAUTVRGBCAY1402KCAQU0WAACA9MU1VFCAK4QY0M.jpg"/>
          <p:cNvPicPr/>
          <p:nvPr/>
        </p:nvPicPr>
        <p:blipFill>
          <a:blip r:embed="rId1"/>
          <a:stretch/>
        </p:blipFill>
        <p:spPr>
          <a:xfrm>
            <a:off x="3733920" y="1981080"/>
            <a:ext cx="1342800" cy="1795680"/>
          </a:xfrm>
          <a:prstGeom prst="rect">
            <a:avLst/>
          </a:prstGeom>
          <a:ln w="0">
            <a:noFill/>
          </a:ln>
        </p:spPr>
      </p:pic>
      <p:sp>
        <p:nvSpPr>
          <p:cNvPr id="255" name="TextBox 3"/>
          <p:cNvSpPr/>
          <p:nvPr/>
        </p:nvSpPr>
        <p:spPr>
          <a:xfrm>
            <a:off x="1905120" y="464832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names were Krispies, Puffs, Cocoa, Flakes and Fro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Recorded Sound" descr=""/>
          <p:cNvPicPr/>
          <p:nvPr/>
        </p:nvPicPr>
        <p:blipFill>
          <a:blip r:embed="rId2"/>
          <a:stretch/>
        </p:blipFill>
        <p:spPr>
          <a:xfrm>
            <a:off x="-609480" y="5029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9000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和一只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inchill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8" name="Content Placeholder 3" descr="3HTXCASCVKXGCAENIY2VCAT2SMS1CAECC72KCA3DM5ZXCA248EWPCAQPJN7MCA1RIBFYCAJYX117CAMV93SICAAKHEWGCARZOIHLCAQHPXSLCA8AI9OLCALFKVIWCAZ8OVJ7CAIEP8MCCA6TOCM7CAARJDWG.jpg"/>
          <p:cNvPicPr/>
          <p:nvPr/>
        </p:nvPicPr>
        <p:blipFill>
          <a:blip r:embed="rId1"/>
          <a:stretch/>
        </p:blipFill>
        <p:spPr>
          <a:xfrm>
            <a:off x="3505320" y="2743200"/>
            <a:ext cx="1652400" cy="16527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3"/>
          <p:cNvSpPr/>
          <p:nvPr/>
        </p:nvSpPr>
        <p:spPr>
          <a:xfrm>
            <a:off x="2438280" y="533412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 Chinch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Recorded Sound" descr=""/>
          <p:cNvPicPr/>
          <p:nvPr/>
        </p:nvPicPr>
        <p:blipFill>
          <a:blip r:embed="rId2"/>
          <a:stretch/>
        </p:blipFill>
        <p:spPr>
          <a:xfrm>
            <a:off x="-609480" y="5257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000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他叫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pecial 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TextBox 4"/>
          <p:cNvSpPr/>
          <p:nvPr/>
        </p:nvSpPr>
        <p:spPr>
          <a:xfrm>
            <a:off x="2438280" y="563868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 name was Special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Content Placeholder 5" descr="3HTXCASCVKXGCAENIY2VCAT2SMS1CAECC72KCA3DM5ZXCA248EWPCAQPJN7MCA1RIBFYCAJYX117CAMV93SICAAKHEWGCARZOIHLCAQHPXSLCA8AI9OLCALFKVIWCAZ8OVJ7CAIEP8MCCA6TOCM7CAARJDWG.jpg"/>
          <p:cNvPicPr/>
          <p:nvPr/>
        </p:nvPicPr>
        <p:blipFill>
          <a:blip r:embed="rId1"/>
          <a:stretch/>
        </p:blipFill>
        <p:spPr>
          <a:xfrm>
            <a:off x="2819520" y="237816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264" name="Recorded Sound" descr=""/>
          <p:cNvPicPr/>
          <p:nvPr/>
        </p:nvPicPr>
        <p:blipFill>
          <a:blip r:embed="rId2"/>
          <a:stretch/>
        </p:blipFill>
        <p:spPr>
          <a:xfrm>
            <a:off x="-609480" y="5181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4000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隶书"/>
              </a:rPr>
              <a:t>他们在农庄都快乐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6" name="Content Placeholder 7" descr="7RVYCA069NAJCABEMY5FCAUFL000CA2PQUIOCAH4HXY6CA6ZAJEJCAC2NMV0CA1U2UQ1CA4AH16VCAWMUOBRCA9P6PMTCAILASIGCAPGPDGJCAZZ7P68CACBW2DOCADP38T3CAXJ3FOMCA2QG5BLCA8NZWS1.jpg"/>
          <p:cNvPicPr/>
          <p:nvPr/>
        </p:nvPicPr>
        <p:blipFill>
          <a:blip r:embed="rId1"/>
          <a:stretch/>
        </p:blipFill>
        <p:spPr>
          <a:xfrm>
            <a:off x="1828800" y="1806480"/>
            <a:ext cx="4876920" cy="3489480"/>
          </a:xfrm>
          <a:prstGeom prst="rect">
            <a:avLst/>
          </a:prstGeom>
          <a:ln w="0">
            <a:noFill/>
          </a:ln>
        </p:spPr>
      </p:pic>
      <p:sp>
        <p:nvSpPr>
          <p:cNvPr id="267" name="TextBox 3"/>
          <p:cNvSpPr/>
          <p:nvPr/>
        </p:nvSpPr>
        <p:spPr>
          <a:xfrm>
            <a:off x="2209680" y="54100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ere all happy in the f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Recorded Sound" descr=""/>
          <p:cNvPicPr/>
          <p:nvPr/>
        </p:nvPicPr>
        <p:blipFill>
          <a:blip r:embed="rId2"/>
          <a:stretch/>
        </p:blipFill>
        <p:spPr>
          <a:xfrm>
            <a:off x="-533520" y="5105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6000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隶书"/>
              </a:rPr>
              <a:t>直到有一天，马醒来时大叫了一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0" name="Content Placeholder 3" descr="52.jpg"/>
          <p:cNvPicPr/>
          <p:nvPr/>
        </p:nvPicPr>
        <p:blipFill>
          <a:blip r:embed="rId1"/>
          <a:stretch/>
        </p:blipFill>
        <p:spPr>
          <a:xfrm>
            <a:off x="3124080" y="2666880"/>
            <a:ext cx="2686320" cy="15224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3"/>
          <p:cNvSpPr/>
          <p:nvPr/>
        </p:nvSpPr>
        <p:spPr>
          <a:xfrm>
            <a:off x="1905120" y="52578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il one day, the horse wakes up scre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Recorded Sound" descr=""/>
          <p:cNvPicPr/>
          <p:nvPr/>
        </p:nvPicPr>
        <p:blipFill>
          <a:blip r:embed="rId2"/>
          <a:stretch/>
        </p:blipFill>
        <p:spPr>
          <a:xfrm>
            <a:off x="-609480" y="5257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7000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隶书"/>
              </a:rPr>
              <a:t>他说绿色的怪物回来了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4" name="Content Placeholder 3" descr="VR7OCAXGEOOACA7PEPFPCAKHCVE3CAYKK1L3CAETKD35CAKE7EU2CAISR7FMCAJY8X8BCA4EDQXJCARCY22RCAN3GWT3CA1K0V2DCAOBR58DCADGQABYCA6NRPTBCAOLXL3YCAP2GH8LCAKNHJW0CAQBB60Q.jpg"/>
          <p:cNvPicPr/>
          <p:nvPr/>
        </p:nvPicPr>
        <p:blipFill>
          <a:blip r:embed="rId1"/>
          <a:stretch/>
        </p:blipFill>
        <p:spPr>
          <a:xfrm>
            <a:off x="2895480" y="2590920"/>
            <a:ext cx="2854440" cy="2043000"/>
          </a:xfrm>
          <a:prstGeom prst="rect">
            <a:avLst/>
          </a:prstGeom>
          <a:ln w="0">
            <a:noFill/>
          </a:ln>
        </p:spPr>
      </p:pic>
      <p:sp>
        <p:nvSpPr>
          <p:cNvPr id="275" name="TextBox 3"/>
          <p:cNvSpPr/>
          <p:nvPr/>
        </p:nvSpPr>
        <p:spPr>
          <a:xfrm>
            <a:off x="1905120" y="52578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said that the Green Monster was bac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Recorded Sound" descr=""/>
          <p:cNvPicPr/>
          <p:nvPr/>
        </p:nvPicPr>
        <p:blipFill>
          <a:blip r:embed="rId2"/>
          <a:stretch/>
        </p:blipFill>
        <p:spPr>
          <a:xfrm>
            <a:off x="-609480" y="4648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6000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他叫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il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8" name="Content Placeholder 3" descr="H8X4CAB05SWZCA9PMDSGCADHOYJKCA02BIBHCA7527BHCAM5UNA1CAQIT5FYCAZWGMIKCA0KV2OGCA4JRA7VCA017YQKCAKWRKOHCAZONXXXCAEXSMDKCAKSBH54CA5SX041CA1RXAMUCA0TIZY5CAZ8DFHO.jpg"/>
          <p:cNvPicPr/>
          <p:nvPr/>
        </p:nvPicPr>
        <p:blipFill>
          <a:blip r:embed="rId1"/>
          <a:stretch/>
        </p:blipFill>
        <p:spPr>
          <a:xfrm>
            <a:off x="3200400" y="2276640"/>
            <a:ext cx="1805040" cy="2439720"/>
          </a:xfrm>
          <a:prstGeom prst="rect">
            <a:avLst/>
          </a:prstGeom>
          <a:ln w="0">
            <a:noFill/>
          </a:ln>
        </p:spPr>
      </p:pic>
      <p:sp>
        <p:nvSpPr>
          <p:cNvPr id="279" name="TextBox 3"/>
          <p:cNvSpPr/>
          <p:nvPr/>
        </p:nvSpPr>
        <p:spPr>
          <a:xfrm>
            <a:off x="1828800" y="57150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name was Mi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Recorded Sound" descr=""/>
          <p:cNvPicPr/>
          <p:nvPr/>
        </p:nvPicPr>
        <p:blipFill>
          <a:blip r:embed="rId2"/>
          <a:stretch/>
        </p:blipFill>
        <p:spPr>
          <a:xfrm>
            <a:off x="-609480" y="5029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5000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隶书"/>
              </a:rPr>
              <a:t>有一个小男孩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Content Placeholder 3" descr="YLV2CAW10Q9DCA6GYNGXCA0NKNSDCA4E7QXECAZRI23WCA48Y4IECA95IRT3CA2TTL9WCAVBBZUVCAV5WQH5CASQ0EXECAUSJA1RCAB5FZVGCAFEBTNPCAT3A7ASCA83WWUKCAHG2T4SCAD5E62RCAQE79MI.jpg"/>
          <p:cNvPicPr/>
          <p:nvPr/>
        </p:nvPicPr>
        <p:blipFill>
          <a:blip r:embed="rId1"/>
          <a:stretch/>
        </p:blipFill>
        <p:spPr>
          <a:xfrm>
            <a:off x="3657600" y="1828800"/>
            <a:ext cx="1447920" cy="2543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3805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TextBox 13"/>
          <p:cNvSpPr/>
          <p:nvPr/>
        </p:nvSpPr>
        <p:spPr>
          <a:xfrm>
            <a:off x="1600200" y="52578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as a little b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Recorded Sound" descr=""/>
          <p:cNvPicPr/>
          <p:nvPr/>
        </p:nvPicPr>
        <p:blipFill>
          <a:blip r:embed="rId2"/>
          <a:stretch/>
        </p:blipFill>
        <p:spPr>
          <a:xfrm>
            <a:off x="-685800" y="5105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000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隶书"/>
              </a:rPr>
              <a:t>一天，他们聚到一起把他吓走了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2" name="Content Placeholder 3" descr="X878CAZXDJR6CAR9RWBACAEM9VB3CA0TM0C7CAZWGVIMCAE3EP6WCAVA50ICCAPEL96YCAWEAOX0CARMGNWGCABGKI5RCAD873WTCA1XBK8ACAP2RUFDCAOGO2XNCAH2VLFACAO7RPN6CA0SI9CHCA11WPQX.jpg"/>
          <p:cNvPicPr/>
          <p:nvPr/>
        </p:nvPicPr>
        <p:blipFill>
          <a:blip r:embed="rId1"/>
          <a:stretch/>
        </p:blipFill>
        <p:spPr>
          <a:xfrm>
            <a:off x="2341440" y="2133720"/>
            <a:ext cx="2826000" cy="2192040"/>
          </a:xfrm>
          <a:prstGeom prst="rect">
            <a:avLst/>
          </a:prstGeom>
          <a:ln w="0">
            <a:noFill/>
          </a:ln>
        </p:spPr>
      </p:pic>
      <p:sp>
        <p:nvSpPr>
          <p:cNvPr id="283" name="TextBox 3"/>
          <p:cNvSpPr/>
          <p:nvPr/>
        </p:nvSpPr>
        <p:spPr>
          <a:xfrm>
            <a:off x="1219320" y="53341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day, they all got together and                               scared him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Recorded Sound" descr=""/>
          <p:cNvPicPr/>
          <p:nvPr/>
        </p:nvPicPr>
        <p:blipFill>
          <a:blip r:embed="rId2"/>
          <a:stretch/>
        </p:blipFill>
        <p:spPr>
          <a:xfrm>
            <a:off x="-457200" y="5334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7000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隶书"/>
              </a:rPr>
              <a:t>他在也没回来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 never came ba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7" name="Picture 3" descr="M6RTCA4AVUCRCAG6T98VCAVW19KXCAUCNL85CAP4QDNECAMMPCSYCAWCMPQ9CAZRLUZDCAHXZ1NNCAGC0J3WCADEL51BCA4CMWKDCAJJO3ERCASUPF9MCAPYCSJQCA0VE1NLCAD3U22VCAT0TX9LCA1XJ80D.jpg"/>
          <p:cNvPicPr/>
          <p:nvPr/>
        </p:nvPicPr>
        <p:blipFill>
          <a:blip r:embed="rId1"/>
          <a:stretch/>
        </p:blipFill>
        <p:spPr>
          <a:xfrm>
            <a:off x="2743200" y="2286000"/>
            <a:ext cx="3200400" cy="3176640"/>
          </a:xfrm>
          <a:prstGeom prst="rect">
            <a:avLst/>
          </a:prstGeom>
          <a:ln w="0">
            <a:noFill/>
          </a:ln>
        </p:spPr>
      </p:pic>
      <p:pic>
        <p:nvPicPr>
          <p:cNvPr id="288" name="Recorded Sound" descr=""/>
          <p:cNvPicPr/>
          <p:nvPr/>
        </p:nvPicPr>
        <p:blipFill>
          <a:blip r:embed="rId2"/>
          <a:stretch/>
        </p:blipFill>
        <p:spPr>
          <a:xfrm>
            <a:off x="-609480" y="5791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4000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他叫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pple Jack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Content Placeholder 3" descr="M2HCCAEK1O54CAOWGDU8CA312VPOCA28IT7UCAJW3T9OCAT1MVFCCAFF1HJLCAQRPI6YCA4UKJLFCARNV9U1CANUWVWXCAB5NVE2CAXC02U3CAAM02PYCAOC7SJKCARSCR25CATZ0QP0CAHR3KL5CAZIX6FM.jpg"/>
          <p:cNvPicPr/>
          <p:nvPr/>
        </p:nvPicPr>
        <p:blipFill>
          <a:blip r:embed="rId1"/>
          <a:stretch/>
        </p:blipFill>
        <p:spPr>
          <a:xfrm>
            <a:off x="3429000" y="2590920"/>
            <a:ext cx="2465280" cy="2178000"/>
          </a:xfrm>
          <a:prstGeom prst="rect">
            <a:avLst/>
          </a:prstGeom>
          <a:ln w="0">
            <a:noFill/>
          </a:ln>
        </p:spPr>
      </p:pic>
      <p:sp>
        <p:nvSpPr>
          <p:cNvPr id="206" name="TextBox 3"/>
          <p:cNvSpPr/>
          <p:nvPr/>
        </p:nvSpPr>
        <p:spPr>
          <a:xfrm>
            <a:off x="2286000" y="54864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name was Apple J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Recorded Sound" descr=""/>
          <p:cNvPicPr/>
          <p:nvPr/>
        </p:nvPicPr>
        <p:blipFill>
          <a:blip r:embed="rId2"/>
          <a:stretch/>
        </p:blipFill>
        <p:spPr>
          <a:xfrm>
            <a:off x="-457200" y="495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00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他没有妈妈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 didn’t have a m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images.jpg"/>
          <p:cNvPicPr/>
          <p:nvPr/>
        </p:nvPicPr>
        <p:blipFill>
          <a:blip r:embed="rId1"/>
          <a:stretch/>
        </p:blipFill>
        <p:spPr>
          <a:xfrm>
            <a:off x="3124080" y="1905120"/>
            <a:ext cx="2482920" cy="2114280"/>
          </a:xfrm>
          <a:prstGeom prst="rect">
            <a:avLst/>
          </a:prstGeom>
          <a:ln w="0">
            <a:noFill/>
          </a:ln>
        </p:spPr>
      </p:pic>
      <p:sp>
        <p:nvSpPr>
          <p:cNvPr id="211" name="Straight Connector 11"/>
          <p:cNvSpPr/>
          <p:nvPr/>
        </p:nvSpPr>
        <p:spPr>
          <a:xfrm>
            <a:off x="3124080" y="1981080"/>
            <a:ext cx="259092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3"/>
          <p:cNvSpPr/>
          <p:nvPr/>
        </p:nvSpPr>
        <p:spPr>
          <a:xfrm flipH="1">
            <a:off x="3200400" y="2057400"/>
            <a:ext cx="228600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Recorded Sound" descr=""/>
          <p:cNvPicPr/>
          <p:nvPr/>
        </p:nvPicPr>
        <p:blipFill>
          <a:blip r:embed="rId2"/>
          <a:stretch/>
        </p:blipFill>
        <p:spPr>
          <a:xfrm>
            <a:off x="-609480" y="4952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000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他没有爸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 didn’t have a 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3" descr="VH1ACANBVS77CAM8TCRLCAMXNRCYCA6FIFSWCA4BTAW4CAB6ZZJNCAGQKYRXCAKO039NCATG2UUACAW06H0YCAUNPEUACAX600AOCAUT4ZWXCAG2KWTCCARDC1VUCAK4L7J5CAKNDR4DCASY7LBECALY61BM.jpg"/>
          <p:cNvPicPr/>
          <p:nvPr/>
        </p:nvPicPr>
        <p:blipFill>
          <a:blip r:embed="rId1"/>
          <a:stretch/>
        </p:blipFill>
        <p:spPr>
          <a:xfrm>
            <a:off x="3200400" y="2133720"/>
            <a:ext cx="2227320" cy="2133360"/>
          </a:xfrm>
          <a:prstGeom prst="rect">
            <a:avLst/>
          </a:prstGeom>
          <a:ln w="0">
            <a:noFill/>
          </a:ln>
        </p:spPr>
      </p:pic>
      <p:sp>
        <p:nvSpPr>
          <p:cNvPr id="217" name="Straight Connector 7"/>
          <p:cNvSpPr/>
          <p:nvPr/>
        </p:nvSpPr>
        <p:spPr>
          <a:xfrm>
            <a:off x="3353760" y="2287440"/>
            <a:ext cx="1827000" cy="1903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0"/>
          <p:cNvSpPr/>
          <p:nvPr/>
        </p:nvSpPr>
        <p:spPr>
          <a:xfrm flipH="1">
            <a:off x="3352320" y="2209680"/>
            <a:ext cx="175284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Recorded Sound" descr=""/>
          <p:cNvPicPr/>
          <p:nvPr/>
        </p:nvPicPr>
        <p:blipFill>
          <a:blip r:embed="rId2"/>
          <a:stretch/>
        </p:blipFill>
        <p:spPr>
          <a:xfrm>
            <a:off x="-609480" y="4876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000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他很寂寞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 was lone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3" descr="YGLPCA22O2RRCAIL8LA6CA1EONGGCASMQLWKCA7D08X0CAXFAJJICAO0LUCPCARO68TECAP2D0X3CANWH2PYCAMZ6HU7CAGZSORSCADRB6IZCAV5C1MHCAKHZ347CA4JANX0CAI6K773CAP94YH4CA0E5AGK.jpg"/>
          <p:cNvPicPr/>
          <p:nvPr/>
        </p:nvPicPr>
        <p:blipFill>
          <a:blip r:embed="rId1"/>
          <a:stretch/>
        </p:blipFill>
        <p:spPr>
          <a:xfrm>
            <a:off x="3429000" y="2133720"/>
            <a:ext cx="1976400" cy="1898640"/>
          </a:xfrm>
          <a:prstGeom prst="rect">
            <a:avLst/>
          </a:prstGeom>
          <a:ln w="0">
            <a:noFill/>
          </a:ln>
        </p:spPr>
      </p:pic>
      <p:pic>
        <p:nvPicPr>
          <p:cNvPr id="223" name="Recorded Sound" descr=""/>
          <p:cNvPicPr/>
          <p:nvPr/>
        </p:nvPicPr>
        <p:blipFill>
          <a:blip r:embed="rId2"/>
          <a:stretch/>
        </p:blipFill>
        <p:spPr>
          <a:xfrm>
            <a:off x="-609480" y="4876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5000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隶书"/>
              </a:rPr>
              <a:t>他住在一个农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Content Placeholder 3" descr="IVAMCACJ1AA4CATC3YLLCAQ1LR3UCA76LSXHCAG169K6CAMHNOD5CAJXA5SICA5P5W4FCAAAMSZ7CA9I9WRPCAV8BUB1CA2K0L6VCAIOHHCICA28U0NACA5EK9K2CAC31AZNCAFFFBW1CA1Y64MACA63F43D.jpg"/>
          <p:cNvPicPr/>
          <p:nvPr/>
        </p:nvPicPr>
        <p:blipFill>
          <a:blip r:embed="rId1"/>
          <a:stretch/>
        </p:blipFill>
        <p:spPr>
          <a:xfrm>
            <a:off x="2836800" y="23623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3"/>
          <p:cNvSpPr/>
          <p:nvPr/>
        </p:nvSpPr>
        <p:spPr>
          <a:xfrm>
            <a:off x="1295280" y="54864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lived in a f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Recorded Sound" descr=""/>
          <p:cNvPicPr/>
          <p:nvPr/>
        </p:nvPicPr>
        <p:blipFill>
          <a:blip r:embed="rId2"/>
          <a:stretch/>
        </p:blipFill>
        <p:spPr>
          <a:xfrm>
            <a:off x="-609480" y="5105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5000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农庄里有马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Content Placeholder 3" descr="64.jpg"/>
          <p:cNvPicPr/>
          <p:nvPr/>
        </p:nvPicPr>
        <p:blipFill>
          <a:blip r:embed="rId1"/>
          <a:stretch/>
        </p:blipFill>
        <p:spPr>
          <a:xfrm>
            <a:off x="3048120" y="2362320"/>
            <a:ext cx="2138400" cy="2049480"/>
          </a:xfrm>
          <a:prstGeom prst="rect">
            <a:avLst/>
          </a:prstGeom>
          <a:ln w="0">
            <a:noFill/>
          </a:ln>
        </p:spPr>
      </p:pic>
      <p:sp>
        <p:nvSpPr>
          <p:cNvPr id="230" name="TextBox 3"/>
          <p:cNvSpPr/>
          <p:nvPr/>
        </p:nvSpPr>
        <p:spPr>
          <a:xfrm>
            <a:off x="1981080" y="5334120"/>
            <a:ext cx="4724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arm there was a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Recorded Sound" descr=""/>
          <p:cNvPicPr/>
          <p:nvPr/>
        </p:nvPicPr>
        <p:blipFill>
          <a:blip r:embed="rId2"/>
          <a:stretch/>
        </p:blipFill>
        <p:spPr>
          <a:xfrm>
            <a:off x="-609480" y="5105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5000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马叫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ptain Crunc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3" name="Content Placeholder 3" descr="37.jpg"/>
          <p:cNvPicPr/>
          <p:nvPr/>
        </p:nvPicPr>
        <p:blipFill>
          <a:blip r:embed="rId1"/>
          <a:stretch/>
        </p:blipFill>
        <p:spPr>
          <a:xfrm>
            <a:off x="3505320" y="2057400"/>
            <a:ext cx="2033640" cy="20336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3"/>
          <p:cNvSpPr/>
          <p:nvPr/>
        </p:nvSpPr>
        <p:spPr>
          <a:xfrm>
            <a:off x="1143000" y="51055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rse’s name was Capitan Cr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Recorded Sound" descr=""/>
          <p:cNvPicPr/>
          <p:nvPr/>
        </p:nvPicPr>
        <p:blipFill>
          <a:blip r:embed="rId2"/>
          <a:stretch/>
        </p:blipFill>
        <p:spPr>
          <a:xfrm>
            <a:off x="-609480" y="5105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000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14:10:54Z</dcterms:created>
  <dc:creator>itsuser</dc:creator>
  <dc:description/>
  <dc:language>en-US</dc:language>
  <cp:lastModifiedBy>itsuser</cp:lastModifiedBy>
  <dcterms:modified xsi:type="dcterms:W3CDTF">2009-04-02T16:15:49Z</dcterms:modified>
  <cp:revision>39</cp:revision>
  <dc:subject/>
  <dc:title>Slide 1</dc:title>
</cp:coreProperties>
</file>